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668-C237-49C0-B06B-00B08212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C9B-C3EA-47C2-BCB2-55ADD6B9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236-8DE6-49D4-8424-B7569EB4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1DD-3255-4B2D-90E1-79B618AC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CC79-3CE9-424E-9718-25378C34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D06-6A53-44B6-84D3-14CDA836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D228-56D8-4FC1-911B-6664CF85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D0E5-5E3B-4E94-9450-C6B16FF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5077-8181-4FF9-9CCC-84B983B1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A610-CB92-4E5C-A034-1980515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88CC-0BAA-4A8E-A1CF-059DA256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0C4-0C5E-41E6-8DE7-4E79A324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7BAC-F40A-4C45-833B-B87BB6A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8A71-36D5-4833-BA99-3D785092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8379-5152-4F0D-989E-E0BB7EA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A0C-73C3-4FDB-B74A-D0051E7F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7ED8-E222-44FA-9E85-B81BCC69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FDA8-5982-48F6-9D8B-D3748CC6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AEBC-6545-4AB8-A149-D21B2D02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919C-E770-4171-97B0-4D0697EA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BBBA-FE7B-4443-A212-F2F5385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8A0B-F1C0-48F6-8EAF-5AE33D4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265-7F03-4EA9-949B-94959DAA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E98E-A6EC-46BB-B643-3F172ABD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CE76-2193-400E-93D2-9292DBF0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9A5F-2E1A-423B-A8AF-C642888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1BD0-46A3-406F-B628-7DEC9F8E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BC37-35EF-4D8C-8072-249FFCE1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C866-BAE4-40F1-90AF-5862C60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6004-BC1B-4118-9283-26AEDDCB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2E54-ACB8-49E4-B9E6-A4E86B2C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B946-830D-4BEC-B2E1-E657E20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865A-1EA2-45D9-9270-8BEA84E6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4C4-0970-412B-A7E2-76651C14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7E8B-0D12-48FE-B63E-03196CE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6E87-C50D-4131-9BDE-A0D49126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3863-C55E-4F99-B9B3-942F4281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71CD-5BF1-419F-8D6F-D9FD09A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8F01-63BE-4C25-B0DA-FBC3ABB3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8299-21E3-4E3C-A5FA-61586C3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09E5-C109-4BC8-8F7D-0CE86739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06C5-8BE9-401D-BF1D-6C587686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3816-ACF0-458D-94A4-E4969099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C7884-4759-42BF-8D9D-1B51DFFC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002-695D-42E7-BF11-DAD39C1C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950FA-5634-411B-8C42-B15FB241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DFAD-A1A1-433B-A1F8-15E1D0C1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2BD1-909F-4949-855F-C2DC2E4E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C7C4-D345-4610-BA17-3791663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1CDBD-1284-4B33-85FA-E367FF2A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5977-1262-4C9E-89C3-1C531CFA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962E-F0A8-4C82-BE3F-74D4E26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F1642-E7B3-42BE-AEA4-F44D5A2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A049A-E12D-41AC-9235-92B8D4D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250A-0D82-48DF-B522-BFDF3B18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0CE-6804-481C-815D-6A3834D3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3629-984D-45B2-B9CE-E3B85788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94745-2897-4C5C-92A4-39FDED32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DB05-A6AE-4CCF-81E6-5C51A16C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8536F-5D7E-47CE-90FD-8291747E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CF25B-DD59-4810-B90A-EA2836A9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4DC61-C778-45F4-86BA-63F1F693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83C5-B9AC-4008-A8A4-66614D0B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D6ECF-B9A3-43AE-B0EA-D26F189F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1D11-E100-4BC7-95F8-790BA86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58C74-BEF7-48DF-A3B6-1771AFF1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04B-06EE-4E1C-B573-A937F1D8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EAF40-ABB9-44E8-8348-91E17C2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E99F-385D-42F4-B0F7-0E424B20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AEFA-5AC3-4D55-B56D-A6C694F0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AF6E-C9E7-4613-AA24-25DA750E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C358-0071-4171-A001-8A91AB86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35F2-4A04-4329-8788-A51D7EE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41951-FE58-475C-9EA0-05BBE251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4C7C-03FA-42DD-BAD4-D9155E2F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13256-285D-4C3E-B6A9-A182B1F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BFD07-475E-4DEA-9B0A-59E68D2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20B-B247-4B4C-BCC7-B4FA7B73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A9961-89FC-4DFD-A0DB-231744BC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409F-44B5-43C9-8B38-E39D118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C8487-4395-4656-A4A3-5B2636E6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51B32-7D2B-4F09-88E5-013D6402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271EF-8E73-46D5-947B-ECAF74B3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186-9206-49E8-A37D-7C69A85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862D-EB88-444D-8884-0F2603A5FB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2F05-29DC-4A57-99D8-5B7AC0932D1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2E3E-B312-49A3-A5CA-C3A7D3C602E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1F5E-A527-48B3-8671-6DEBDFF059D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3249-7BCD-4BE9-B733-0F202CD85AA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D947-B695-461A-B9AC-A99CE77C76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F0D6-4229-4A3F-AD65-9611141B65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pter Eigh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Digital Journal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log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Weblog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creates blog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are blogs importan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t are blogs journalis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for Online Med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Web is changing reader habits and challenging journalistic conven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ve Tips for Online Sto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"Chunk" your inform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eak your type to make it easier to sca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hink what a "story" i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nhance your story with extra ele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labora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line Package Plan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form that helps reporters and editors plan stories for the Web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Future of Ne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rts answer the question: How will Americans get their news in the year 2025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rom Print to the We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ill electronic newspapers replace dead-tree newspapers someday? Probably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ine media offer readers more variety—and better yet, more control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avigation is a crucial factor on news Web sites: Sites must be informative, inviting and intuitively logical, so users can roam at random, following their curiosities and customizing their new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lectronic news reporters need to develop new storytelling techniqu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ces between Print and Web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iness: Web stories can be posted seconds after they're written and updated constantly as events unfol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ages usually run smaller on Web pages (readers can click to enlarg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ine text uses bigger type, and stories run in just one colum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rint story consists of just text, photos and graphic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ces between Print and Web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ine stories can become part of a complex multimedia package, combining text, photos, audio, video, animated graphics, interactive chat and more. Stories, images and digital extras can be linked together in layers, with related options just a click away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Though the options are more diverse online, journalistic standards and reporting techniques should remain the SAM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dia Converg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srooms must work together to create a solid news 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nvergence in three basic for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Newsroom convergenc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: Journalists from different media (TV, radio, newspaper, online) all share the same workspace, instead of occupying separate offices in separate building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Newsgathering convergenc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: Reporters, editors and photographers collaborate on story production—Journalists multitask in multimedia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Content convergenc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: The final story is presented in multimedia form, combining text, images, audio, video, blogs, podcasts, slide-shows, etc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avigating Online News Si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ome pag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gateway to the online new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nks users to every related page. It must be comprehensive, yet easy to navigate; busy, yet clea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y links require compelling headlines and concise, engaging summari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elements on the home page defined (time/date, index, lead story, page depth, footer, navigation button, search engine, ads/promos, interactive extras, link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line Storytelling Op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inted word remains the fundamental building block of online journalism, but there are smart, new tools to enhance i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ltimedia Option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de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di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cams and webcas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dcas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imated graph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line Storytelling Op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eractive Option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ve cha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er feedback and com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line polls and quizz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21:43:13Z</dcterms:created>
  <dc:creator>Administrator</dc:creator>
  <dc:description/>
  <dc:language>en-US</dc:language>
  <cp:lastModifiedBy>Administrator</cp:lastModifiedBy>
  <dcterms:modified xsi:type="dcterms:W3CDTF">2013-07-21T21:17:17Z</dcterms:modified>
  <cp:revision>7</cp:revision>
  <dc:subject/>
  <dc:title>Chapter Eight</dc:title>
</cp:coreProperties>
</file>